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14A-6840-474B-A97F-C3AFE0642943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celery in beaker with food colouring, one with nail polish on leaves, other without.  Students write what will and happen and w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F6DA-4701-4CBE-81A5-7719C05C1720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2CC-4428-4768-94A8-DE3D95EA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D86-7842-4EFA-90CF-09E2C90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469-9934-43C6-9587-2F1DD8D7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440-9B99-4C2C-988D-EFE58B28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342-678B-4C33-B96A-0EA3833C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827-951C-4FED-892C-33A9547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6C0C-E489-4450-AF52-9441E60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4DD-4344-4118-9134-156B340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636C-945C-481E-94A9-D98D7F79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4FFF-01B3-4ED1-8D1B-5CFF0A0C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C2A1-72F7-46E7-9805-DA746A7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BF5-0E78-4C0A-972A-B6BA82B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A18-A3FE-42E9-BD3C-8FE803F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140F-4C09-4515-8566-F332E84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9047-8025-4059-89EE-C7906422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1564-D88A-4907-83E4-5F31BC3D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641-EB76-4FBB-A4CB-CCEBF65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67B66-6485-44C7-9168-38BC9E9A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75D7D-13FE-4B45-9C73-8FF726F7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23A40-DE6E-4160-B0E1-08D27EA0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FBD57-165C-4685-9463-7BF583D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3399C-872C-4151-87A1-5CF1030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AB0-891E-4761-854B-73494DA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2644B-3C1C-4785-926F-93FACC9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8DCC3-2413-4957-95A4-276F9A0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FE064-D90E-4119-BA83-3C55F2D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BC58A-8192-434D-87C9-F36FAA1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66926-E41A-4139-AB66-6B70181F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1792C-3438-40A2-AFA4-209D05DA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B030D-91CC-4FDD-904B-C453CA1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D447-82CF-4DD9-A96C-63820BE0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1ADD-7EC5-4198-A199-C1D0AAB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4FD1-72FB-43DC-891A-C81C6883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ED5-F5A4-4249-AA52-FF38714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E05F-0D64-4A4C-9D3A-A74BA4DA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9AE3-E27D-439C-BC59-71736F7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D761-EA97-4D5C-8BEA-0DABD382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40C3-9FD6-4EAC-A23A-5243C07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0C95-1B2F-41EA-98D7-EF99061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35C6-9325-438B-A674-384C643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A7D3-903F-4B43-B65B-B067644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1E8C-65DC-43CD-9B10-B6D6849A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BC70-77D9-4F65-9C82-1068E1A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07A58-CEB5-4132-B712-2D79C4A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91A-B3C2-45D7-86F5-DAE23BF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C1947-6F6D-4368-ACCE-F9992F2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74644-3C9E-41BD-87D5-476671C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46D56-407C-4E9A-BA48-CFF7F1B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8F911-276B-4A4A-A34F-75D9B181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092E8-FC81-417C-AB46-D726A4C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BDFFB-D034-46C5-9A01-40B4989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50DED-3A54-4955-B2FC-282B99C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D9CC6-1B33-4190-988C-2596091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9FC3D-BFA9-43EE-B070-CFF3A811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72EC2-6B70-45BC-A48A-5854B2C9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EBB-DE2A-4BC3-B29D-DAE896B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51684-7489-4621-AE7C-D1264317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F452E-B2F0-4999-9F8B-5B8ABE36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5C523-39C1-4F0E-9561-929FA20E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ADF7A-31E9-4088-AA6B-0787FA14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AC625-F2CE-4E29-81B2-3568646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3E70B-0FB2-4CBC-B73E-299B53D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DB828-4DA0-48A0-8036-5473B29A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AB7A5-6B6D-4816-AA4A-2969D07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E41DB-72F1-4BD6-81FD-9860A515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673B8-D3D0-44D3-AED4-E569C92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889-0A00-491A-97FE-CA4BB5D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0CA3C-D5CA-43F7-BEB5-243549AE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50CF3-4D70-4C1B-A0B8-8D4F70BD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30948-C634-462B-9DF9-ACB83C99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F0844-FCDA-48EC-A57B-BBAD037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BC604-F47F-4FA3-9DA3-380351A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BDC0E-F57D-4358-A739-14848E0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19E5F-37A1-4450-8EC7-2BE4BD7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71AA8-EC7E-4E14-8276-1391E007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1B787-8BE4-4CBA-8900-45E8DC6E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0F52D-1B1F-4FD7-93F8-7A96D48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BFA-1BDA-4602-AF8A-CED7720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10C64-F69D-4E56-BF96-A0B9C50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7B0C5-C36C-4D8E-997F-940C01C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7FBEE-6F1A-42C6-B8C9-9BEE7BBA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BA579-378A-4E5E-832D-9B8FFA90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E6C0A-ED0B-45BA-B53C-63ECEF18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3F2-EE74-460E-8C31-F4D5E64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CE42-F962-466E-9E8A-F9BD40AD8B24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E43-ACA6-41B5-AA3B-3B332A950C42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EE58-7BA2-4ABE-9A51-1480D31B68A2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114-3CE4-4FFB-9389-D676473F3933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F28-6EFC-4809-B325-8F123779F683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042-2043-4BCC-8558-66E4D789E848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6BB-07A4-4866-99EC-2118C7733474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c9gUm1mMzc&amp;feature=related" TargetMode="External"/><Relationship Id="rId2" Type="http://schemas.openxmlformats.org/officeDocument/2006/relationships/hyperlink" Target="http://projects.cbe.ab.ca/resources/cts/agr1030/resources/multimedia/transpiration.swf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SSON #6:  TRANSPI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lain how transpiration occu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172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TRANSPI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07640" y="1268280"/>
            <a:ext cx="65502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61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WHAT IS I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ranspiration is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os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water from a pl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’s caused by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evaporation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water from inside the lea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evaporation causes a slight shortage of water in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eaf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, which causes it to draw more water up from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plant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, which causes water to be drawn up from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root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via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 has two beneficial effec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) It transports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mineral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from the soil 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b) It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ol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the pl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WHICH AFFECT TRANSPI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rate of transpiration is affected 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amount of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mount of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air mo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Humidity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the surrounding 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biggest rate of transpiration occurs in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hot, dry, windy, sunny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conditions (ie perfect to dry cloth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slowest rate occurs in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ol, cloudy, damp, miserable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weather with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no wi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6784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WRITE A SHORT EXPLANATION WITH YOUR NEIGHBOUR:</a:t>
            </a:r>
            <a:br>
              <a:rPr sz="24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W DOES THE LEAF STRUCTURE HELP PREVENT EXCESSIVE WATER LOSS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5054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OW DO PLANTS TRANSPORT WATER AND FOO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765000"/>
            <a:ext cx="746748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rough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Xylem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Using capillary a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:  Surface of xylem (+ve) and water (-ve) molecu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: water to wat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632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youtube.com/watch?v=mc9gUm1mMzc&amp;feature=rel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projects.cbe.ab.ca/resources/cts/agr1030/resources/multimedia/transpiration.sw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Transpiration virtual lab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http://www.mhhe.com/biosci/genbio/virtual_labs/BL_10/BL_10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NSPIRATION VIRTUAL LAB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http://www.mhhe.com/biosci/genbio/virtual_labs/BL_10/BL_10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factor causes the high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plant has the high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plant has the low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545e70"/>
                </a:solidFill>
                <a:latin typeface="Century Schoolbook"/>
              </a:rPr>
              <a:t>CAPILLARY AC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692280"/>
            <a:ext cx="74674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Capillary action in plants is a good example of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The inner surface of the xylem contains positive and negative charges to which water forms hydrogen bonds. This is called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As water creeps up the sides of the xylem (adhesion) the water molecules in the middle connect to other water molecules because of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The water moves up as the water molecules at the top of the xylem enter the leaves and evaporat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When a water molecule leaves the leaf, the molecule behind it moves up causing a general movement of the water up the tre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0:39:59Z</dcterms:created>
  <dc:creator>Laura</dc:creator>
  <dc:description/>
  <dc:language>en-US</dc:language>
  <cp:lastModifiedBy>USUARIO</cp:lastModifiedBy>
  <dcterms:modified xsi:type="dcterms:W3CDTF">2013-01-23T20:46:25Z</dcterms:modified>
  <cp:revision>18</cp:revision>
  <dc:subject/>
  <dc:title>Transpiration</dc:title>
</cp:coreProperties>
</file>